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88111"/>
        <c:axId val="55346589"/>
      </c:barChart>
      <c:catAx>
        <c:axId val="52288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46589"/>
        <c:crosses val="autoZero"/>
        <c:auto val="1"/>
        <c:lblAlgn val="ctr"/>
        <c:lblOffset val="100"/>
        <c:noMultiLvlLbl val="0"/>
      </c:catAx>
      <c:valAx>
        <c:axId val="55346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88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6AE-52ED-44F4-897F-B60716DC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83D-2858-45DC-867E-FE52A5D1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049-4721-4FE2-AC49-A635F102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E3D-E337-41BF-AB85-DE47A315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856-33DD-4A0E-9731-677CEF38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244-99AA-4FBD-B00A-5F52E78D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FDA-ED60-4AF5-8A80-C5476FB4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781-00D0-45DB-A319-427B8171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659-B4A8-40EF-B0C0-090B524D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0A1-74A2-4460-B72B-34EE54C8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C7D-2C6F-427D-921A-7B7A325B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7B0-2441-4D56-91F5-C8EAB187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5F1B0-FE88-4E88-AD00-FB43A35FCB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