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233713"/>
        <c:axId val="74003046"/>
      </c:barChart>
      <c:catAx>
        <c:axId val="632337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03046"/>
        <c:crosses val="autoZero"/>
        <c:auto val="1"/>
        <c:lblAlgn val="ctr"/>
        <c:lblOffset val="100"/>
        <c:noMultiLvlLbl val="0"/>
      </c:catAx>
      <c:valAx>
        <c:axId val="740030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337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2E48-F42D-445F-91AA-E807BF41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EC4E-7F1A-4FB1-AD88-C9AC862B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49FD-5747-4218-B25E-4800DF94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335E-A6D0-499E-B304-C3674BEF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5D8D-9BCF-4C24-B13A-F0B17618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BE6A-F82A-437E-B50F-D58EB9AB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144D-DA59-42B5-952C-6B905383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BDDC-1A2E-4360-85DE-48EEBBA3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F21B-FDDC-4F65-BD33-8A4D879F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9570-022C-41CC-9E69-3B88F32A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B2FC-6FF8-4ACD-A3A7-70CA4B95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7537-AE17-43DC-97FC-325C2231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04858-A54F-48F3-9F42-7C4122A517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