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40730"/>
        <c:axId val="89429014"/>
      </c:barChart>
      <c:catAx>
        <c:axId val="65240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29014"/>
        <c:crosses val="autoZero"/>
        <c:auto val="1"/>
        <c:lblAlgn val="ctr"/>
        <c:lblOffset val="100"/>
        <c:noMultiLvlLbl val="0"/>
      </c:catAx>
      <c:valAx>
        <c:axId val="89429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40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B84-EE9D-415E-AFD9-6E52F2D7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CC3-B190-40A6-87A5-1BCBC862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50F-85EB-47BF-8669-8D50BEE6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659-832E-45FD-BF65-90505A56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2AD-0AD5-4A15-9DEA-6EE0E678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5E6-30FB-4E55-B579-1A4713CC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BCD-C7DA-4002-998D-448B060C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340B-2889-4822-BD57-4CAD394F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E6E-FC2A-4322-BDE4-A9FB11DB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572-8186-401A-A88F-499F4AAF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845-DD8C-4F6A-A442-A3C23CF6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F09-96FB-41FF-B09F-60F925F0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B1442-5989-4803-BA5A-C459A38986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