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80974"/>
        <c:axId val="89361633"/>
      </c:barChart>
      <c:catAx>
        <c:axId val="964809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61633"/>
        <c:crosses val="autoZero"/>
        <c:auto val="1"/>
        <c:lblAlgn val="ctr"/>
        <c:lblOffset val="100"/>
        <c:noMultiLvlLbl val="0"/>
      </c:catAx>
      <c:valAx>
        <c:axId val="89361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809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748-6DF6-46C9-BF49-566E86DA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FE1D-5FA1-48FE-AC02-246765D9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22F-599A-46BA-8AF1-A59E3A83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C28-64DA-4C5F-84F3-25EA1CD8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8BD1-F0CD-48DE-BC67-AA92CA1D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8E5D-32EB-448F-B350-3046D893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7B3-F20F-456A-BADA-07BD0873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963D-F8F3-49A7-9A8B-99E392B5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371-CDD2-4CEB-A858-C4625A64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D35A-F7F2-4A8C-BEC4-DAC430D8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36E5-51A2-4A66-B041-B961B863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62D5-0048-480E-803C-C3ACF734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AB367-2828-49DD-A82E-5DF5C64105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