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72380"/>
        <c:axId val="18011156"/>
      </c:barChart>
      <c:catAx>
        <c:axId val="78872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11156"/>
        <c:crosses val="autoZero"/>
        <c:auto val="1"/>
        <c:lblAlgn val="ctr"/>
        <c:lblOffset val="100"/>
        <c:noMultiLvlLbl val="0"/>
      </c:catAx>
      <c:valAx>
        <c:axId val="18011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72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F73-CCDA-4D05-BA6E-891E7A9E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B10-61B2-42E2-B9E2-01D882F5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6A6-B145-419B-B88B-2D3B47B7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395-1F8E-4CE5-A329-A9E6F747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631-C08A-4F06-83C0-483BA39F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6C4-A5CD-489F-86AB-5D17EA2C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EB3-5FEF-4B6F-8C6C-2BE76D0B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984-B158-4FF5-9047-A026B61D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D98-E4FA-4763-AF98-24A4BAD2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AC7-6B12-4083-9117-5E619F6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A3C-F489-4105-84C3-DD54EE3D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552-3062-4091-A63C-40805633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C6F32-DF6E-4EAC-9000-73F9B70DB1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