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17711"/>
        <c:axId val="27168224"/>
      </c:barChart>
      <c:catAx>
        <c:axId val="31617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8224"/>
        <c:crosses val="autoZero"/>
        <c:auto val="1"/>
        <c:lblAlgn val="ctr"/>
        <c:lblOffset val="100"/>
        <c:noMultiLvlLbl val="0"/>
      </c:catAx>
      <c:valAx>
        <c:axId val="27168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17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87-F388-41B3-B022-63985C12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D4E-D48C-4530-B70E-70C61BA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A25-302E-4A8C-AAA6-3BB68FA8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263-8A2F-48AF-B433-0997C71B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51E-F11E-42D8-9C0A-7890E42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764-07E3-4C73-B60A-FE34F243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DA8-8941-421C-BD1C-8369BCE1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C91-659A-48E1-89C4-41F95AB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1AE-052A-44E8-AD89-6E9A3E72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0FC-71AD-446E-8D5C-5D44D2E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2C2-F35D-477E-BD29-0536AEE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E97-A9B2-4A86-ADAD-0548B16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E40B3-0972-4E1A-B4A7-4377874CC4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