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27661"/>
        <c:axId val="58848565"/>
      </c:barChart>
      <c:catAx>
        <c:axId val="49527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8565"/>
        <c:crosses val="autoZero"/>
        <c:auto val="1"/>
        <c:lblAlgn val="ctr"/>
        <c:lblOffset val="100"/>
        <c:noMultiLvlLbl val="0"/>
      </c:catAx>
      <c:valAx>
        <c:axId val="58848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27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527-3D46-4843-83B2-A87D6CB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5C3-CDBC-4B53-8876-C75B5104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FD9-4904-4933-A0B2-39725732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895-2B0E-44C1-85BE-059C6FB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0B4-7613-49BD-A9A6-F3134876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107-E868-4A0D-BBB5-29854B64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FAF-1C47-43D4-A41C-94E8B43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FCD-BE6D-4E27-90CB-B148A3F1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FBB-3DDE-4124-9C2A-2E473E24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6E5-B892-41A3-A6D6-41D219E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B47-8501-44DA-AE31-2A90B76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5BA-A26F-4AFD-A4DA-848FBBE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CBA99-0268-4997-8DFB-C89F3CD9C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