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65395"/>
        <c:axId val="47523150"/>
      </c:barChart>
      <c:catAx>
        <c:axId val="159653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23150"/>
        <c:crosses val="autoZero"/>
        <c:auto val="1"/>
        <c:lblAlgn val="ctr"/>
        <c:lblOffset val="100"/>
        <c:noMultiLvlLbl val="0"/>
      </c:catAx>
      <c:valAx>
        <c:axId val="47523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653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F3A-4AE9-42CC-A6CE-76698865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143A-E87C-4271-8CF8-AFF01B21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876-20BA-4CD1-9F34-0AA63264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EBD-8EE9-4242-BEF7-A0362A4B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D1C-9113-4DC8-8D36-826C5BAB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8AC-508F-4DA9-A420-09DA2EC6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902-C622-49CC-86BB-F8CDFE6A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652-0B0D-4990-88E2-039835EC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62D-2E04-42A4-8D6B-ED139A26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152-D508-46C7-85AB-A6713500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A27-7A37-4B25-9A33-466A0958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948-2FBB-4562-AC5D-52DC5A01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BB001-BD20-45BD-A6FE-FCB5E27FA7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