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48120"/>
        <c:axId val="74591105"/>
      </c:barChart>
      <c:catAx>
        <c:axId val="89548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91105"/>
        <c:crosses val="autoZero"/>
        <c:auto val="1"/>
        <c:lblAlgn val="ctr"/>
        <c:lblOffset val="100"/>
        <c:noMultiLvlLbl val="0"/>
      </c:catAx>
      <c:valAx>
        <c:axId val="74591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8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957-C39F-4E95-9422-08CD66CE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55E-74C9-4872-9B13-0CF5695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728-27D1-4945-8DE4-8A4AB496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CBA-9895-4AB2-B6D2-B8891F0E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6FE-A55B-419B-9C76-E9E5988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393-E1A1-47E2-AED3-8DF2EF0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394-172E-4623-ABFC-9D15A6CE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600-B4AB-4F84-8210-B38300A8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292-5E63-4E9E-AF2F-0AB36D34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9D8-1394-4B17-95D2-0265BA8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A9D-3325-4351-B6DF-96B3D48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3AE-A477-4996-9664-FA4355A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93D99-D0EF-4C7A-8F03-4C5DCEBB9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