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446660"/>
        <c:axId val="48664983"/>
      </c:barChart>
      <c:catAx>
        <c:axId val="72446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64983"/>
        <c:crosses val="autoZero"/>
        <c:auto val="1"/>
        <c:lblAlgn val="ctr"/>
        <c:lblOffset val="100"/>
        <c:noMultiLvlLbl val="0"/>
      </c:catAx>
      <c:valAx>
        <c:axId val="486649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46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632-EA0E-45E5-BCB1-AF85B684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069-41C1-4FD6-BEEE-54F4DE39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42A-FAD5-424E-88FB-A9E742A9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E16-A737-432F-A038-81EAEC80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D9DD-79AE-4E76-B33D-4865C949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A6A-E367-41E8-B671-A067703A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BC5E-D1C2-4AD0-AD50-F26B8F48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A94-B9E4-4E09-8D38-AF028B3A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699-274E-44A5-8BC1-4C3A2F0F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9C4D-A719-482B-B8D0-ECFD01A9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719E-29F3-47FB-ADAC-AB43C58C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112-95B3-435B-A368-91116CD7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17C55-6193-4F65-8E62-DBE551B9FF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