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32043"/>
        <c:axId val="3388693"/>
      </c:barChart>
      <c:catAx>
        <c:axId val="55432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8693"/>
        <c:crosses val="autoZero"/>
        <c:auto val="1"/>
        <c:lblAlgn val="ctr"/>
        <c:lblOffset val="100"/>
        <c:noMultiLvlLbl val="0"/>
      </c:catAx>
      <c:valAx>
        <c:axId val="3388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2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A11-3702-49D8-BB9D-183369D9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C11-625D-4F34-9071-70714DA2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541-D1BC-41A0-BF17-184D4206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302-9D27-47DA-ACFD-3A476C0E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3C0-B271-4C2A-8469-B7B40624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ED0-4555-4392-AA55-D7853E9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16B-8CAF-40D8-AF37-C21B2F71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7BE-ECEF-449F-8791-7A2755C0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1C8E-31B7-423F-A708-114AC25B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196-225C-46A5-A4C3-58D64564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551-A899-4FDE-A101-55F444F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F87-B181-4E17-B384-1E3990BA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096C-9AE6-4F8C-9844-057DD5117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