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06741"/>
        <c:axId val="24703320"/>
      </c:barChart>
      <c:catAx>
        <c:axId val="34706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03320"/>
        <c:crosses val="autoZero"/>
        <c:auto val="1"/>
        <c:lblAlgn val="ctr"/>
        <c:lblOffset val="100"/>
        <c:noMultiLvlLbl val="0"/>
      </c:catAx>
      <c:valAx>
        <c:axId val="24703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06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4AE-AA7D-4D16-AB69-F29E4E11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D02-F4B1-4816-BA22-E537F238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486-BDC0-40AD-80DF-B3CE6C90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F0D-3DEE-4FAE-B816-2C91117F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7CE0-5B43-48C6-81FA-0727A77E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423-CA2A-4B89-B87B-E8E5A498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889-B265-4C4A-B1EB-2AE6A513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8CC-47AD-4540-BE59-E4C4CFDF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54D-7A75-41C9-A6F5-BB9727C4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2BC-1514-4B9D-95ED-7B20B6E7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06E-38C1-43EA-94F6-A96F6A65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AF0-A994-4051-B73D-274FB395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1A1CA-5196-4C05-B822-A5C1504E17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