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64699"/>
        <c:axId val="30965987"/>
      </c:barChart>
      <c:catAx>
        <c:axId val="5196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65987"/>
        <c:crosses val="autoZero"/>
        <c:auto val="1"/>
        <c:lblAlgn val="ctr"/>
        <c:lblOffset val="100"/>
        <c:noMultiLvlLbl val="0"/>
      </c:catAx>
      <c:valAx>
        <c:axId val="30965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6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334-F704-4EF3-8A59-98A21DED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BA8-FBE2-4B94-80F8-D92D092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B26-C70B-4936-9B45-CD584B6E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096-A2AF-4100-A38D-6489EAB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D41-D792-4A73-9073-2C4E7A8C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02A-8E75-4EFB-9A46-82FFB41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FE8-2ED8-493D-81AA-76BF1E66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950-7769-4994-BB6D-BD6709B5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EBB-CCCD-49FF-B90A-9CC3B03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4DB-8FF3-4696-ABC2-29DC152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15A-344B-43A5-B2B8-E4A660E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FD5-E548-4FF5-B64F-7FEABE5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D1735-195A-4B15-9567-50252E7970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