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31876"/>
        <c:axId val="78670099"/>
      </c:barChart>
      <c:catAx>
        <c:axId val="91531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70099"/>
        <c:crosses val="autoZero"/>
        <c:auto val="1"/>
        <c:lblAlgn val="ctr"/>
        <c:lblOffset val="100"/>
        <c:noMultiLvlLbl val="0"/>
      </c:catAx>
      <c:valAx>
        <c:axId val="78670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31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5AC-BA15-4D3B-B179-359CA08C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073-1DB9-4D3C-96C3-28AEA997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FC6-4411-4C7C-BED3-873C48DB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E20-4491-41FA-B70A-F64F52E6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64D-4759-4D81-94ED-A003389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820-1DC6-4771-929B-74A3795B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247-0780-4DC6-BBE0-AA3605E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D3C-AB22-4314-97B0-AEDF6022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9B3-41E1-422C-9C1E-B59B2A2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C98-0441-4EC4-936F-7BD8F5C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E5D-1C97-4A8C-A9A9-B41D372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5A9-598A-4F15-A95E-3C0CD2A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17EA3-221D-4709-A7D1-33C1D00150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