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62031"/>
        <c:axId val="70534496"/>
      </c:barChart>
      <c:catAx>
        <c:axId val="66762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4496"/>
        <c:crosses val="autoZero"/>
        <c:auto val="1"/>
        <c:lblAlgn val="ctr"/>
        <c:lblOffset val="100"/>
        <c:noMultiLvlLbl val="0"/>
      </c:catAx>
      <c:valAx>
        <c:axId val="70534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2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621-FE82-4C26-9925-97EC8915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889-3C6F-43B1-839F-D3E8AEE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2CF-C933-4ED7-B608-81AEF3B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F10-CB19-489B-A5EA-96A1F52A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7AA-79A8-4574-830D-A22DE140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B4D-9E48-49F0-A885-9119C93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3CA-AA15-4C88-AD65-385DEDDC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BD5-E631-47F2-B7F4-BA3FEE3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0F2-DF9C-404A-805F-3CFAD271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289-F2E1-4027-BE31-73191BC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A0B-1B25-48C4-83BA-C805855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A7D-95AD-4151-A625-6F6C859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EC7F-7BD7-49B8-8294-01FD0B870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