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486332"/>
        <c:axId val="78728789"/>
      </c:barChart>
      <c:catAx>
        <c:axId val="984863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28789"/>
        <c:crosses val="autoZero"/>
        <c:auto val="1"/>
        <c:lblAlgn val="ctr"/>
        <c:lblOffset val="100"/>
        <c:noMultiLvlLbl val="0"/>
      </c:catAx>
      <c:valAx>
        <c:axId val="787287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863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44EB-284E-4E5F-B788-04D164E6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8C80-3ED3-403C-8297-808C4718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8359-CA3F-4EF1-83F2-7E6BF4924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AB77-7FED-4E5C-B4A8-A10C2E5C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ABE1-643D-49A1-B40D-BD415441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F745-D2B3-483B-A865-74FA8D2F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1645-E6DB-4C59-B821-98BD725D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EDAF-99E8-4746-81FD-C719C8FD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85E2-8CB9-47F0-87AF-7300D13F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07D9-A971-4C55-B22A-75516A94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4741-F40E-4485-89B9-D21B44C1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03C5-7698-4B0F-9C92-AB44612D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0EAC9-4C3A-4EFA-AE6F-CA22788085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