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83741"/>
        <c:axId val="51352279"/>
      </c:barChart>
      <c:catAx>
        <c:axId val="48783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52279"/>
        <c:crosses val="autoZero"/>
        <c:auto val="1"/>
        <c:lblAlgn val="ctr"/>
        <c:lblOffset val="100"/>
        <c:noMultiLvlLbl val="0"/>
      </c:catAx>
      <c:valAx>
        <c:axId val="51352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83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4DC-D66E-41F6-9876-8071D1D8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F59-87DD-4E8F-8848-82CFE8D1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D7C-A720-436E-843E-EAB7CBB7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1D7-DFD5-4E4B-86F2-C066CA27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BE5-C4F9-4A13-92AC-E7455CEA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947-9F74-4211-8952-797ABE84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B8A-76B3-4AE9-B829-A2DD0EC5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36D-D1C6-41D3-82D0-2F62F5DF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B8A-CC5A-4D77-88CD-CB4B87AF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EE7-F428-4E0F-9BE2-B1D799A1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EA1-FB75-4A46-936B-88E3B0C0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12F-992D-47C0-A388-A445786B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8DE39-9E83-4595-92C9-085F886C56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