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94338"/>
        <c:axId val="4933853"/>
      </c:barChart>
      <c:catAx>
        <c:axId val="48694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3853"/>
        <c:crosses val="autoZero"/>
        <c:auto val="1"/>
        <c:lblAlgn val="ctr"/>
        <c:lblOffset val="100"/>
        <c:noMultiLvlLbl val="0"/>
      </c:catAx>
      <c:valAx>
        <c:axId val="4933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94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74-2B03-4715-B9DF-CA553BBF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7F8-6EF0-495D-B735-2795418E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72F-4292-4E01-A701-6EC1BAAA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0C9-42B2-4D3F-8796-80D045D4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468-9C56-402F-B182-F3FA734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896-1C6B-4972-BE9C-7F36940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E64-E461-4238-98FB-12B37DA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D78-2E6B-422E-A5F9-EDD3C22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294-B3EB-4E04-A4BA-5D02AE2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CA0-9EAC-4EAC-8964-763CACBB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401-FB66-4FE0-A7FF-5534FF6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D62-99B4-458F-8DCC-631A5AB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889B8-9752-4A5A-BD07-57B3C4E29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