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29209"/>
        <c:axId val="5224929"/>
      </c:barChart>
      <c:catAx>
        <c:axId val="7072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4929"/>
        <c:crosses val="autoZero"/>
        <c:auto val="1"/>
        <c:lblAlgn val="ctr"/>
        <c:lblOffset val="100"/>
        <c:noMultiLvlLbl val="0"/>
      </c:catAx>
      <c:valAx>
        <c:axId val="5224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F29-1D63-40D0-885D-835D932A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30B-0A6C-4E50-B408-E7FA64D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FE8-EC13-48AB-96BA-68260B2F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0AA-5261-4BCE-AE3A-D022733B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3DD-11EB-49AC-A08C-CB64FB6E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0B9-2386-4CB9-B571-41ED7E3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728-6FEE-45DD-BEA2-3B5F58F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BFC-6D6C-40B2-959F-31CD0EAA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2C9-1208-4279-A23C-D82E993F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4C8-A1A8-42ED-908D-91FE72A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1F8-625A-4316-9E04-2AB4214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CCC-9AA1-4CC4-8C96-C618346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99CD-AD5C-413F-8D36-FAACF6E9A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