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64424"/>
        <c:axId val="29060159"/>
      </c:barChart>
      <c:catAx>
        <c:axId val="372644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60159"/>
        <c:crosses val="autoZero"/>
        <c:auto val="1"/>
        <c:lblAlgn val="ctr"/>
        <c:lblOffset val="100"/>
        <c:noMultiLvlLbl val="0"/>
      </c:catAx>
      <c:valAx>
        <c:axId val="290601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644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433-B3DB-4A3E-9293-91F7E0D2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34DD-8752-49EA-BA30-097C16085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92CD-19C6-43F9-92A7-0E19375C0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513-11DD-4F55-A8D6-30CF3470B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C9C0-F562-4460-92A5-6BE099B8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0F07-AF21-4ABD-AFC3-173094BB4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7BB4-680F-41D6-B94E-6DF96CE78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C14B-1F23-4F1C-B1B1-FD6E2152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5945-ABA6-4474-BE82-3EEF9D99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FE24-103D-44B7-837C-0377C0E4C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587B-8747-49BC-8620-6E2CB037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2B0A-9582-4E4F-889C-603DC4619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03B5D0-A81B-4F7C-93CA-68C100AAC29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