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04210"/>
        <c:axId val="42277297"/>
      </c:barChart>
      <c:catAx>
        <c:axId val="54004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77297"/>
        <c:crosses val="autoZero"/>
        <c:auto val="1"/>
        <c:lblAlgn val="ctr"/>
        <c:lblOffset val="100"/>
        <c:noMultiLvlLbl val="0"/>
      </c:catAx>
      <c:valAx>
        <c:axId val="42277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04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83B8-D268-4B6A-AE73-A0DA70A7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FF64-88CC-4E13-8D9E-0B246836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401-9244-4CAF-A244-313195DC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E3CE-CF56-4456-98CD-DF8A6C2F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264-2ABA-4D88-8CDB-5A78EEF9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B1A-E73B-4572-BA84-B655B716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E22D-46B6-42AB-8FFD-CA878D49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29B-A1F1-467B-AEFA-BFACA86C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CD0F-12E2-4B52-BECF-133311BF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BB5-35C1-471F-B733-6606430C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6A0-8EC5-4238-ABD5-F5F2BDAD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2FE7-E6A2-4C76-BFF3-D4566BA2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B1AF4-5AAD-4E0D-83A6-2DD4076B35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